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519-4ED1-4B86-95A8-97948A0E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3D9-939F-46FA-A812-1AE59BC0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849-0517-45C6-A6A7-CE3BEE36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E25-6758-4C23-B5F5-D1FB26E9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A5B27-BBF3-49BA-ACD8-11A3B415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70472-D492-4C1A-B2D5-23E7E46C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56DDA-1955-4221-A039-546B4731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A7608-2330-4E8A-9991-B73B8217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48F5B-8FE6-45A2-A7E8-274ECD39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C20CB-F797-476A-A277-7FE9FEF6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24E0A-BB93-4198-9A14-BD83ABFA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0B6-3916-45B6-8EDA-73654D3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73530-636C-4DB5-A9F0-676F61FE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61EB3-BE95-40A7-8545-8A569611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D4B2A-0908-4237-8ADF-C8F1DCF8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3D520-7ED6-47DD-9D8D-A99BCF2E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583D6-1DF0-4888-9CF1-B9537082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A5F-0E29-455E-80FF-A6922206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31A-2B9C-4699-AAFE-EA7BD76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E57-051D-46EB-BD94-83366DEE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19D-E64D-49CB-8A33-6028E67D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873-E58D-4424-98BE-65551E5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E4B-78AC-478A-A9E0-6B74EE68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FBF-2511-4B44-BD91-C7065D7E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B3B8-B773-458D-A129-714D13B5E6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EB37-3271-4A25-9477-D164B6FADE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21106200">
            <a:off x="2057400" y="1600200"/>
            <a:ext cx="4952880" cy="358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oogl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6767640" y="5446800"/>
            <a:ext cx="14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. Aman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7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53341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410080"/>
            <a:ext cx="46483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p-h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onday, October 04, 2010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57600" y="762120"/>
            <a:ext cx="762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Invention: Goog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hey embarked on a project  in 1995 to help computer users search for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he first incarnation of their project dubbed “BackRub” was based on  the pairs assumption that the was already pop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ranslating Google to the web took a lot of mathematic engenenu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he search engins popularity began to grow within a few yea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Inventors: Sergey Brin/ Larry p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rin born in Moscow, Russia August, 21 1973 his father was a  profess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ge born on March 26 in Lansing, Migagin earned a B.A from the university of migagin in 199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rin emergitated to the  U.S. with his family in mary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Pict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page_brin"/>
          <p:cNvPicPr/>
          <p:nvPr/>
        </p:nvPicPr>
        <p:blipFill>
          <a:blip r:embed="rId2"/>
          <a:srcRect l="24325" t="0" r="24325" b="0"/>
          <a:stretch/>
        </p:blipFill>
        <p:spPr>
          <a:xfrm>
            <a:off x="2514600" y="32004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Brin"/>
          <p:cNvPicPr/>
          <p:nvPr/>
        </p:nvPicPr>
        <p:blipFill>
          <a:blip r:embed="rId3"/>
          <a:stretch/>
        </p:blipFill>
        <p:spPr>
          <a:xfrm>
            <a:off x="457200" y="3200400"/>
            <a:ext cx="2057400" cy="2762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page"/>
          <p:cNvPicPr/>
          <p:nvPr/>
        </p:nvPicPr>
        <p:blipFill>
          <a:blip r:embed="rId4"/>
          <a:stretch/>
        </p:blipFill>
        <p:spPr>
          <a:xfrm>
            <a:off x="6629400" y="3200400"/>
            <a:ext cx="2057400" cy="2819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3520" y="19810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394000"/>
            <a:ext cx="81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oog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9/29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eb.mit.edu/invent/iow/page_bri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1Z</dcterms:created>
  <dc:creator>install</dc:creator>
  <dc:description/>
  <dc:language>en-US</dc:language>
  <cp:lastModifiedBy>install</cp:lastModifiedBy>
  <dcterms:modified xsi:type="dcterms:W3CDTF">2010-10-14T17:32:46Z</dcterms:modified>
  <cp:revision>11</cp:revision>
  <dc:subject/>
  <dc:title>Slide 1</dc:title>
</cp:coreProperties>
</file>